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5FC9-74A5-4DC4-9C18-EC9BDD57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4B2-7A5A-43B9-8180-2DA37FB7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9261-7FF5-4193-827A-0D0CD74A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E55-5F6B-450E-BA9E-736384FB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DA2-B69A-4B33-B28B-9257C122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36DF-C8BA-4AB7-930F-2DD51381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1AC9-456B-4EB6-9530-4DA416DA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1015-8829-40C8-B940-4553720B5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3A92-D18C-4B42-8823-9266584E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10F7-EE31-45E0-8CCF-7AE9B9693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BEC-7C96-4D89-836E-73FA8E3D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D696-BEE3-4DCA-926D-8282EDD4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36C2-9BB3-4974-BC6A-DF450BEDA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00DA-708F-4A6E-A6C6-A94C7857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EF2-53C0-4593-9134-A271AABE5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61D-F1B8-4FC2-AFD5-322F18B4E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93BA-3F36-49E3-88A6-3B6EC481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2F90-6D78-42AB-86C0-7D54DBE2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DBE-289F-4847-A465-F239F470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E052-F1B2-480A-B744-F94934B2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9C1-FDFB-423B-AC59-8A836592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6B6-3F68-4E0B-96F7-5FDAC7581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D11E-8948-4ADE-A8DA-418946521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89AB-16C2-4A50-A287-4425BE9F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92A-0554-42FB-B372-648DA4CF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9C02-1871-46A8-B961-ECE50739F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CBF-730D-40D4-BB22-F4FB2E6F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BA64-D379-4151-8076-907811890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460-37B8-4DDF-BD56-F97A9145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8EB6-FB4F-4714-9260-FF390D306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63A-E2A2-461E-897B-1ABC60123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1E7D-76E9-49E0-8474-ED687994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9B8-11BA-4A7F-9845-7BCC83B7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284-CE22-4F51-B6D1-DE4CE144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99B-2C24-4842-B3DA-38A222C1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CEAE-A484-4968-A74F-D22789D0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C102-9A4B-4C08-880F-2B4F1F508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C14-F98B-47B3-B6B5-6CDD68DA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F12-5C08-418D-B7FF-785C2E92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8ED-3636-4D79-9DAF-CCF730C2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990-4F8A-4A5C-A92A-4017391E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A9B-33FA-466F-860E-ECC2CB9A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3B59-C8F1-4F78-8B02-9AB748EF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56CA-C9D4-4929-BE56-42DEE711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49F5-48F9-4547-843D-B1803FB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E295-C463-477B-A3F3-583D111A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2CD7-FBC3-41B6-BC34-2FF6856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A5F1-2BCC-4ED2-BCBF-7841216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4D71-50FB-4B32-BF12-E1DB5CB0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003-C67A-42FE-8BFF-8AD2796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39D9-88DC-496F-A1F6-1EDB647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B4AC-FCDC-49C8-92C2-122BF9A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A18D-0F27-4B86-A058-8DB8DC02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AA46-9C20-4FC7-BF8B-CEFA49DF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EA60-F4CE-4156-AE87-112F1A18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B9C-74D8-4407-8331-95BC7C9A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FF4-6D9B-4E17-84A2-2CC3AE1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BCE-76E3-4FB4-81F4-0798ADB6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DE1-84C4-4507-8D3D-FA396AC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45D-821E-415F-9A79-EF538F6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08D-7732-4777-BBE8-6B07F54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765-9A39-4B39-9AC5-8649814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48C-558B-47DB-914F-78A5A94AC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38C-A778-4FB7-A60A-63C132948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400800"/>
            <a:ext cx="86104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ing,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dition.  Copyright ©2008 by South-Western, a division of Thomson Learning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population growth trends, age distributions, and geographic tr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umber of Births by Ye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10320" r="0" b="4009"/>
          <a:stretch/>
        </p:blipFill>
        <p:spPr>
          <a:xfrm>
            <a:off x="568440" y="1523880"/>
            <a:ext cx="7889760" cy="43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urrent average projections are correct, the United States population will increase only about 1% a year, from 295 million in 2005 to 336 million in 2020 and to 420 million by 2050, or 37% over 4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is growth will be a result of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 Distribu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0 the median age was 30, but by 2005 it had risen to over 3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of early baby boomers today accounts for almost 28% of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eniors (60+) live longer, the group will become more seg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 Distribu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usters or Generation X, those born between 1965 and 1977, is a declining percentage of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Y or Echo boomers, those born between 1978 and 1994, are emerging as a major buying force in the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omers, Xers and Ye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marketing Merchandi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ailoring of merchandise in each store to the preferences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xas Consumers’ Percentage of National Average U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Statistical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reestanding urban areas with populations in excess of 5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population trends to the retail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ocial trends that retail managers should regularly monitor and describe their impact on retai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nging economic trends and their effect on retai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consumer shopping/purchasing model, including the key stages in the shopping/purchas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the population residing in metropolitan areas has increased dramatically, form 64% in 1950 to 79%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or Metropolitan population varies by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, Massachusetts, New Jersey are over 90% urban/me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e, Mississippi, Vermont, and West Virginia are less than 50% urban/me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Americans change residence about a dozen times in a lif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who move each year, about 64% remain in the same county, about 21% move to a new county but same state, and approximately 18% move to a new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arriage and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up of the American House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Natur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ucation level of the average American is incre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85% of those over 25 had a high school degree and 27% had a college de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6 there were 23% more women enrolled in college than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couples are one of the slowest growing household types not only in this country but also worldw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are people postponing marriage, some are choosing not to marry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60, the U.S. divorce rate has increased by 2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% of all households have no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1980 and 2003 the “home-aloners” increased by 4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es” Unmarried Cou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167% sinc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% of couple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merang E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called because the parents think the children have left for good, but they keep coming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stimated over the next decade 40% of children will return to their parents after they have previously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there were nearly 10 million self-employed individuals and estimated 6 million home-based businesses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M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bination of merchandise, assortment, price, promotion, customer service, and store layout that best serves the segments targeted by the reta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in the Labo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Use of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of Aggregate Income Received by Each Fifth and the Top 5% of U.S. Households, 1980-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6415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3733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able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ersonal income less personal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onar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isposable income minus the money needed for necessities to susta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, expressed as a percentage of disposable income, have dwindled from a post-World War II high of 8.8% in 1981 to 4.6% in 1995 to a dismal 1.7% in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the rate was 2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70, 43% of all women over the age of 16 were in the labor force; today it is 6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of all women ages 25 to 34 are currently on the labo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of working married women with preschoolers increased from 30% in 1970 to 60% in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in 2006 were staggering under an estimated $2.2 trillion in consumer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Information Gathering (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urchas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Shopping/ Purchase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41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71600" y="1828800"/>
            <a:ext cx="8138880" cy="3657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 cue that is external to the individual or a drive that is internal to the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atisf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total shopping experience of the customer has been met or exc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ny object or phenomenon in the environment that is capable of eliciting a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 motivating force that direct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Information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ceiving and processing of information regarding the existence and quality of merchandise, services, stores, shopping, convenience, pricing, advertising, and any other factors that a consumer might consider in making a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Recog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’s desired state of affairs departs sufficiently from the actual state of affairs, placing the consumer in a state of un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grees of Consumer Problem Solving in Shopping/Purchas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038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ual problem s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 relies on past experiences and learning to convert the problem into a situation requiring less thought. The consumer has a strong preference for the brand to buy and the retailer from which to purcha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Problem S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 has a strong preference for either the brand or the store, but not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Problem S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 recognizes a problem but has decided on neither the brand nor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Information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consumers proactively gathe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characteristics of the store and its products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Spen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ltern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consumers make judgments regarding the individual product attributes of a retailer and/o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chase stage may include final negotiation, application for credit if necessary, and the determination of the terms of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urchase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perceptions toward the retailer and/or product purchased after use and 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urchase Resen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when after the purchase the consumer becomes dissatisfied with the product, service, or retailer and thus begins to regret the purchase wa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tional Slid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5257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676520"/>
            <a:ext cx="7848720" cy="380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676520"/>
            <a:ext cx="0" cy="3809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1320" y="1676520"/>
            <a:ext cx="0" cy="3809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803680"/>
            <a:ext cx="213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819520"/>
            <a:ext cx="228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2819520"/>
            <a:ext cx="228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1447920"/>
            <a:ext cx="6096240" cy="4647960"/>
          </a:xfrm>
          <a:prstGeom prst="flowChartOr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18680" y="26971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027160"/>
            <a:ext cx="257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1880" y="3836880"/>
            <a:ext cx="232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up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9400" y="3836880"/>
            <a:ext cx="191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1447920"/>
            <a:ext cx="5334120" cy="4647960"/>
          </a:xfrm>
          <a:prstGeom prst="flowChar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81920" y="236232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1680" y="2362320"/>
            <a:ext cx="178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1760" y="3932280"/>
            <a:ext cx="212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9040" y="3932280"/>
            <a:ext cx="246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ctivities the retailer performs that influence (1) the ease with which a potential customer can shop or learn about the store’s offering, (2) the ease with which a transaction can be completed once the customer attempts to make a purchase, and (3) the customer’s satisfaction with the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urrent Trends Affect the Way the Consumer Behav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eg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viding of a heterogeneous consumer population into smaller, more homogeneous groups based on their character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llars &amp; Sen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ers who focus on understanding a well-defined niche and serving that market with a differentiated offer will be more profitable than their 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2:04:18Z</dcterms:created>
  <dc:creator>Steven Inman</dc:creator>
  <dc:description/>
  <dc:language>en-US</dc:language>
  <cp:lastModifiedBy>Steven Inman</cp:lastModifiedBy>
  <dcterms:modified xsi:type="dcterms:W3CDTF">2007-01-15T03:31:16Z</dcterms:modified>
  <cp:revision>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